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8DE-2834-4A00-A805-A2804961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203-C6A6-4F23-8068-D3582AAA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339-38A6-4B74-B4BC-8F430A79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129-A0EA-4158-98F4-025B826B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84E6-F916-463B-90C6-A590C13D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6FE0-D8BF-436D-8D8F-17869012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DB56-0C6D-4CFA-B556-E070531A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6F28-BFA3-4E26-910E-6B42172E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2A64-D789-4E0B-BCD6-7E097BEC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47DE-361D-4602-A17C-94C5CF47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E0D6-1B15-4375-A846-8F82AC3C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18A-057A-477F-8BCF-71A4A3E8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360-D53F-4817-A39B-F88F729D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DA20-45B0-452E-84E2-07BCCC39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DA18-179A-4573-911C-96D10A21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4B0E-EACA-417B-96BA-B75778AD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1176-37D6-4404-81D3-C684B2EE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43F-D50C-4F68-B6D8-4B27240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395-6A53-4AD0-A04C-704B41F0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DAD-10FA-4433-BA9E-89077BCF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1E2-C342-4687-AED9-44E14411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298-5055-42E3-AA69-F40AD23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91A-D3AB-4BFD-80D3-7E00FF48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200-9015-4D3C-8A3B-40083582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013C-83B0-4444-961F-5724713484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9C6-99E1-403E-A399-D6BD97E20A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VENI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DECI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TRA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di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tra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240" y="48006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720" y="4724280"/>
            <a:ext cx="7617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CONDUCI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condu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330033"/>
                </a:solidFill>
                <a:latin typeface="Times New Roman"/>
              </a:rPr>
              <a:t>TRADUCI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u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tradu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Pr</a:t>
            </a:r>
            <a:r>
              <a:rPr b="0" lang="en-US" sz="5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áctica: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che m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 y yo _____________ (poner) la m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né y Laura _______________ (andar) a la esc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 equipo __________ (venir) a las cua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amigo no ____________ (decir) la ver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 no _____________ (querer) hacer la t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tina no ______________ (poder) ir con nos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na y Ricardo ____________ (traer) la sal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a whole set of irregular preterite 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verbs have NO ACCEN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dings for irregular preterite verb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, iste, o, imos, isteis, i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ANDA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ESTA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HAB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HAC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hiz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19920" y="2819520"/>
            <a:ext cx="7617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I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S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POD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PON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SAB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QUER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TEN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09:12Z</dcterms:created>
  <dc:creator>Suzanne M. Shirley</dc:creator>
  <dc:description/>
  <dc:language>en-US</dc:language>
  <cp:lastModifiedBy>jbarber</cp:lastModifiedBy>
  <dcterms:modified xsi:type="dcterms:W3CDTF">2009-10-05T11:58:12Z</dcterms:modified>
  <cp:revision>11</cp:revision>
  <dc:subject/>
  <dc:title>Irregular Preterite Verbs</dc:title>
</cp:coreProperties>
</file>